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48.wmf" ContentType="image/x-wmf"/>
  <Override PartName="/ppt/media/image31.png" ContentType="image/png"/>
  <Override PartName="/ppt/media/image49.wmf" ContentType="image/x-wmf"/>
  <Override PartName="/ppt/media/image29.png" ContentType="image/png"/>
  <Override PartName="/ppt/media/image38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13.png" ContentType="image/png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51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50.wmf" ContentType="image/x-wmf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5C2-27FB-4211-B781-F8694325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4FF-3EF5-4FB2-BDFD-BE1177FA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B83-859B-4E50-B6C9-F97B95D5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71B-CC4A-433D-BB4B-D7F9ECE1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65A-F98C-4D0A-BFA3-3025720F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E51-3FAB-4B85-BC5E-3488EB92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8BE-D232-454E-80B6-CEEDA42D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B9E-D4D5-4071-BDB4-9D0C20DB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1DF-D469-4D07-B7D7-CA59024A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1D6-9AC9-4EC4-9CA5-99643E6D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BD9-2AFE-48AF-A51C-9B887C47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4E6-EBAB-4B4B-959E-4944A72D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324C-79E4-45BC-9902-2483600A1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21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de Boo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Template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unction Templat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1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lass Templat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1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ist of formal type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losed in angle br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ameter is preceded by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type parameters can be used to specify the types for function parameters, local variables and the function’s return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type parameters are replaced by actual data types during comp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mplates enable generic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without specifying data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the function template with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the function template with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133960" cy="1447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4334040" cy="676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76440" y="5410080"/>
            <a:ext cx="43527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50800" y="3038400"/>
            <a:ext cx="6240600" cy="1648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5080" y="1461960"/>
            <a:ext cx="617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emplate proto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4038480"/>
            <a:ext cx="2210040" cy="1571400"/>
            <a:chOff x="609480" y="4038480"/>
            <a:chExt cx="2210040" cy="1571400"/>
          </a:xfrm>
        </p:grpSpPr>
        <p:sp>
          <p:nvSpPr>
            <p:cNvPr id="78" name=""/>
            <p:cNvSpPr/>
            <p:nvPr/>
          </p:nvSpPr>
          <p:spPr>
            <a:xfrm>
              <a:off x="609480" y="502920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templ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09480" y="4038480"/>
              <a:ext cx="1524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79600" y="2733840"/>
            <a:ext cx="6183360" cy="2257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09680" y="1447920"/>
            <a:ext cx="31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85800" y="3962160"/>
            <a:ext cx="1752480" cy="1480680"/>
            <a:chOff x="685800" y="3962160"/>
            <a:chExt cx="1752480" cy="1480680"/>
          </a:xfrm>
        </p:grpSpPr>
        <p:sp>
          <p:nvSpPr>
            <p:cNvPr id="84" name=""/>
            <p:cNvSpPr/>
            <p:nvPr/>
          </p:nvSpPr>
          <p:spPr>
            <a:xfrm>
              <a:off x="685800" y="510552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85800" y="3962160"/>
              <a:ext cx="1600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50800" y="2548080"/>
            <a:ext cx="6240600" cy="262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5800" y="1447920"/>
            <a:ext cx="66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three integer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520" y="3505320"/>
            <a:ext cx="3734280" cy="914400"/>
            <a:chOff x="4952520" y="3505320"/>
            <a:chExt cx="3734280" cy="914400"/>
          </a:xfrm>
        </p:grpSpPr>
        <p:sp>
          <p:nvSpPr>
            <p:cNvPr id="90" name=""/>
            <p:cNvSpPr/>
            <p:nvPr/>
          </p:nvSpPr>
          <p:spPr>
            <a:xfrm>
              <a:off x="6248520" y="36576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re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028840" y="3505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105160" y="38862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952520" y="3886200"/>
              <a:ext cx="1295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50800" y="2952720"/>
            <a:ext cx="6240600" cy="181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3280" y="1461960"/>
            <a:ext cx="70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integer arguments when call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9480" y="4266720"/>
            <a:ext cx="2743200" cy="1266840"/>
            <a:chOff x="609480" y="4266720"/>
            <a:chExt cx="2743200" cy="1266840"/>
          </a:xfrm>
        </p:grpSpPr>
        <p:sp>
          <p:nvSpPr>
            <p:cNvPr id="98" name=""/>
            <p:cNvSpPr/>
            <p:nvPr/>
          </p:nvSpPr>
          <p:spPr>
            <a:xfrm>
              <a:off x="609480" y="4952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ing and displaying the largest of thre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914400" y="4266720"/>
              <a:ext cx="213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50800" y="2552760"/>
            <a:ext cx="6240600" cy="261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15080" y="1447920"/>
            <a:ext cx="72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three floating-point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790960" y="3505320"/>
            <a:ext cx="3124440" cy="838080"/>
            <a:chOff x="5790960" y="3505320"/>
            <a:chExt cx="3124440" cy="838080"/>
          </a:xfrm>
        </p:grpSpPr>
        <p:sp>
          <p:nvSpPr>
            <p:cNvPr id="104" name=""/>
            <p:cNvSpPr/>
            <p:nvPr/>
          </p:nvSpPr>
          <p:spPr>
            <a:xfrm>
              <a:off x="6324480" y="35053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ree floating-point val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943600" y="3886200"/>
              <a:ext cx="380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867280" y="38862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5790960" y="35053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50800" y="2871720"/>
            <a:ext cx="6240600" cy="198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16880" y="1461960"/>
            <a:ext cx="72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guments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empl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76560" y="4191120"/>
            <a:ext cx="3200760" cy="1342440"/>
            <a:chOff x="4876560" y="4191120"/>
            <a:chExt cx="3200760" cy="1342440"/>
          </a:xfrm>
        </p:grpSpPr>
        <p:sp>
          <p:nvSpPr>
            <p:cNvPr id="112" name=""/>
            <p:cNvSpPr/>
            <p:nvPr/>
          </p:nvSpPr>
          <p:spPr>
            <a:xfrm>
              <a:off x="5334120" y="4952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ing and displaying the largest of thre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4876560" y="4191120"/>
              <a:ext cx="23619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" dur="1" fill="hold"/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50800" y="2881440"/>
            <a:ext cx="6240600" cy="1962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3640" y="1461960"/>
            <a:ext cx="52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empl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105520" y="3429000"/>
            <a:ext cx="3733560" cy="580680"/>
            <a:chOff x="5105520" y="3429000"/>
            <a:chExt cx="3733560" cy="580680"/>
          </a:xfrm>
        </p:grpSpPr>
        <p:sp>
          <p:nvSpPr>
            <p:cNvPr id="118" name=""/>
            <p:cNvSpPr/>
            <p:nvPr/>
          </p:nvSpPr>
          <p:spPr>
            <a:xfrm>
              <a:off x="5943600" y="34290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templ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105520" y="365760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" dur="1" fill="hold"/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50800" y="2157480"/>
            <a:ext cx="6240600" cy="340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12200" y="1447920"/>
            <a:ext cx="43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largest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200400" y="4343400"/>
            <a:ext cx="5181480" cy="533520"/>
            <a:chOff x="3200400" y="4343400"/>
            <a:chExt cx="5181480" cy="533520"/>
          </a:xfrm>
        </p:grpSpPr>
        <p:sp>
          <p:nvSpPr>
            <p:cNvPr id="124" name=""/>
            <p:cNvSpPr/>
            <p:nvPr/>
          </p:nvSpPr>
          <p:spPr>
            <a:xfrm>
              <a:off x="6324480" y="43434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value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200400" y="4419720"/>
              <a:ext cx="3124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809520" y="3352680"/>
            <a:ext cx="3962880" cy="762120"/>
            <a:chOff x="3809520" y="3352680"/>
            <a:chExt cx="3962880" cy="762120"/>
          </a:xfrm>
        </p:grpSpPr>
        <p:sp>
          <p:nvSpPr>
            <p:cNvPr id="127" name=""/>
            <p:cNvSpPr/>
            <p:nvPr/>
          </p:nvSpPr>
          <p:spPr>
            <a:xfrm>
              <a:off x="4952880" y="33526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ing which value is the great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885840" y="342864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809520" y="36576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function templates to create a group of related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class templates to create a group of related clas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stand the concept of generic programm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66880" y="2824200"/>
            <a:ext cx="5610240" cy="2076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1840" y="1461960"/>
            <a:ext cx="47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ass Templat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rmal type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s are parameterized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 one or more type parameters to generate a class-template spec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ass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iating a “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ocery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1800360"/>
            <a:ext cx="3057480" cy="2771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62120" y="5410080"/>
            <a:ext cx="4248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904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01720" y="1752480"/>
            <a:ext cx="573876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1840" y="1447920"/>
            <a:ext cx="499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de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template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57600" y="1447920"/>
            <a:ext cx="4419720" cy="914400"/>
            <a:chOff x="3657600" y="1447920"/>
            <a:chExt cx="4419720" cy="914400"/>
          </a:xfrm>
        </p:grpSpPr>
        <p:sp>
          <p:nvSpPr>
            <p:cNvPr id="146" name=""/>
            <p:cNvSpPr/>
            <p:nvPr/>
          </p:nvSpPr>
          <p:spPr>
            <a:xfrm>
              <a:off x="5410080" y="1447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a formal type parameter for a class templ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657600" y="2057400"/>
              <a:ext cx="1905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886200" y="2209680"/>
            <a:ext cx="4419720" cy="762120"/>
            <a:chOff x="3886200" y="2209680"/>
            <a:chExt cx="4419720" cy="762120"/>
          </a:xfrm>
        </p:grpSpPr>
        <p:sp>
          <p:nvSpPr>
            <p:cNvPr id="149" name=""/>
            <p:cNvSpPr/>
            <p:nvPr/>
          </p:nvSpPr>
          <p:spPr>
            <a:xfrm>
              <a:off x="5791320" y="22096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the one-argument constru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886200" y="2819520"/>
              <a:ext cx="1905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352680" y="2971800"/>
            <a:ext cx="5486400" cy="609480"/>
            <a:chOff x="3352680" y="2971800"/>
            <a:chExt cx="5486400" cy="609480"/>
          </a:xfrm>
        </p:grpSpPr>
        <p:sp>
          <p:nvSpPr>
            <p:cNvPr id="152" name=""/>
            <p:cNvSpPr/>
            <p:nvPr/>
          </p:nvSpPr>
          <p:spPr>
            <a:xfrm>
              <a:off x="6172200" y="2971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352680" y="3505320"/>
              <a:ext cx="28195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343040" y="4876560"/>
            <a:ext cx="4496040" cy="733320"/>
            <a:chOff x="4343040" y="4876560"/>
            <a:chExt cx="4496040" cy="733320"/>
          </a:xfrm>
        </p:grpSpPr>
        <p:sp>
          <p:nvSpPr>
            <p:cNvPr id="155" name=""/>
            <p:cNvSpPr/>
            <p:nvPr/>
          </p:nvSpPr>
          <p:spPr>
            <a:xfrm>
              <a:off x="5943600" y="50292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member functions that display statistical infor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4343040" y="4876560"/>
              <a:ext cx="1600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429000" y="5486400"/>
            <a:ext cx="5105520" cy="718200"/>
            <a:chOff x="3429000" y="5486400"/>
            <a:chExt cx="5105520" cy="718200"/>
          </a:xfrm>
        </p:grpSpPr>
        <p:sp>
          <p:nvSpPr>
            <p:cNvPr id="158" name=""/>
            <p:cNvSpPr/>
            <p:nvPr/>
          </p:nvSpPr>
          <p:spPr>
            <a:xfrm>
              <a:off x="5486400" y="586728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3429000" y="5486400"/>
              <a:ext cx="2286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79600" y="2309760"/>
            <a:ext cx="6183360" cy="3105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720" y="1447920"/>
            <a:ext cx="69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de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’s one-argument constru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114800" y="2057400"/>
            <a:ext cx="4724280" cy="1219320"/>
            <a:chOff x="4114800" y="2057400"/>
            <a:chExt cx="4724280" cy="1219320"/>
          </a:xfrm>
        </p:grpSpPr>
        <p:sp>
          <p:nvSpPr>
            <p:cNvPr id="164" name=""/>
            <p:cNvSpPr/>
            <p:nvPr/>
          </p:nvSpPr>
          <p:spPr>
            <a:xfrm>
              <a:off x="4800600" y="2057400"/>
              <a:ext cx="4038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ting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Si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114800" y="2590920"/>
              <a:ext cx="3124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648320" y="3885840"/>
            <a:ext cx="4190760" cy="1891080"/>
            <a:chOff x="4648320" y="3885840"/>
            <a:chExt cx="4190760" cy="1891080"/>
          </a:xfrm>
        </p:grpSpPr>
        <p:sp>
          <p:nvSpPr>
            <p:cNvPr id="167" name=""/>
            <p:cNvSpPr/>
            <p:nvPr/>
          </p:nvSpPr>
          <p:spPr>
            <a:xfrm>
              <a:off x="5791320" y="4952880"/>
              <a:ext cx="3047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ynamically allocate memory for an array of elements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648320" y="3885840"/>
              <a:ext cx="3962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80880" y="4648320"/>
            <a:ext cx="2362320" cy="1175400"/>
            <a:chOff x="380880" y="4648320"/>
            <a:chExt cx="2362320" cy="1175400"/>
          </a:xfrm>
        </p:grpSpPr>
        <p:sp>
          <p:nvSpPr>
            <p:cNvPr id="170" name=""/>
            <p:cNvSpPr/>
            <p:nvPr/>
          </p:nvSpPr>
          <p:spPr>
            <a:xfrm>
              <a:off x="380880" y="54864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ing all grade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143000" y="4648320"/>
              <a:ext cx="1295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79600" y="1905120"/>
            <a:ext cx="6183360" cy="4209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13280" y="1461960"/>
            <a:ext cx="48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Min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76360" y="2209680"/>
            <a:ext cx="5258160" cy="990720"/>
            <a:chOff x="3276360" y="2209680"/>
            <a:chExt cx="5258160" cy="990720"/>
          </a:xfrm>
        </p:grpSpPr>
        <p:sp>
          <p:nvSpPr>
            <p:cNvPr id="176" name=""/>
            <p:cNvSpPr/>
            <p:nvPr/>
          </p:nvSpPr>
          <p:spPr>
            <a:xfrm>
              <a:off x="6172200" y="22096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w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ontain the smallest value encountered so f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276360" y="2743200"/>
              <a:ext cx="2895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257440" y="3276720"/>
            <a:ext cx="3657960" cy="580680"/>
            <a:chOff x="5257440" y="3276720"/>
            <a:chExt cx="3657960" cy="580680"/>
          </a:xfrm>
        </p:grpSpPr>
        <p:sp>
          <p:nvSpPr>
            <p:cNvPr id="179" name=""/>
            <p:cNvSpPr/>
            <p:nvPr/>
          </p:nvSpPr>
          <p:spPr>
            <a:xfrm>
              <a:off x="6400800" y="32767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erating over the remaining element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25744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572000" y="4647960"/>
            <a:ext cx="4267080" cy="961920"/>
            <a:chOff x="4572000" y="4647960"/>
            <a:chExt cx="4267080" cy="961920"/>
          </a:xfrm>
        </p:grpSpPr>
        <p:sp>
          <p:nvSpPr>
            <p:cNvPr id="182" name=""/>
            <p:cNvSpPr/>
            <p:nvPr/>
          </p:nvSpPr>
          <p:spPr>
            <a:xfrm>
              <a:off x="5867280" y="50292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w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a smaller value is f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4572000" y="464796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4" dur="1" fill="hold"/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79600" y="1828800"/>
            <a:ext cx="6183360" cy="4381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13280" y="1461960"/>
            <a:ext cx="48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276360" y="2362320"/>
            <a:ext cx="5562720" cy="824040"/>
            <a:chOff x="3276360" y="2362320"/>
            <a:chExt cx="5562720" cy="824040"/>
          </a:xfrm>
        </p:grpSpPr>
        <p:sp>
          <p:nvSpPr>
            <p:cNvPr id="188" name=""/>
            <p:cNvSpPr/>
            <p:nvPr/>
          </p:nvSpPr>
          <p:spPr>
            <a:xfrm>
              <a:off x="6553080" y="23623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gh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ontain the highest value encountered so f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76360" y="2590920"/>
              <a:ext cx="32763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257440" y="3657600"/>
            <a:ext cx="3657960" cy="657000"/>
            <a:chOff x="5257440" y="3657600"/>
            <a:chExt cx="3657960" cy="657000"/>
          </a:xfrm>
        </p:grpSpPr>
        <p:sp>
          <p:nvSpPr>
            <p:cNvPr id="191" name=""/>
            <p:cNvSpPr/>
            <p:nvPr/>
          </p:nvSpPr>
          <p:spPr>
            <a:xfrm>
              <a:off x="6400800" y="37339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erating over the remaining element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5257440" y="36576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733920" y="4724280"/>
            <a:ext cx="4724280" cy="580680"/>
            <a:chOff x="3733920" y="4724280"/>
            <a:chExt cx="4724280" cy="580680"/>
          </a:xfrm>
        </p:grpSpPr>
        <p:sp>
          <p:nvSpPr>
            <p:cNvPr id="194" name=""/>
            <p:cNvSpPr/>
            <p:nvPr/>
          </p:nvSpPr>
          <p:spPr>
            <a:xfrm>
              <a:off x="5486400" y="47242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gh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a larger value is f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3733920" y="472428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3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9600" y="2157480"/>
            <a:ext cx="6183360" cy="3409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3280" y="1461960"/>
            <a:ext cx="48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Aver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429000" y="2666880"/>
            <a:ext cx="4876920" cy="762120"/>
            <a:chOff x="3429000" y="2666880"/>
            <a:chExt cx="4876920" cy="762120"/>
          </a:xfrm>
        </p:grpSpPr>
        <p:sp>
          <p:nvSpPr>
            <p:cNvPr id="200" name=""/>
            <p:cNvSpPr/>
            <p:nvPr/>
          </p:nvSpPr>
          <p:spPr>
            <a:xfrm>
              <a:off x="5257800" y="26668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and initializ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429000" y="3200400"/>
              <a:ext cx="1828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352320" y="3809880"/>
            <a:ext cx="5258160" cy="580680"/>
            <a:chOff x="3352320" y="3809880"/>
            <a:chExt cx="5258160" cy="580680"/>
          </a:xfrm>
        </p:grpSpPr>
        <p:sp>
          <p:nvSpPr>
            <p:cNvPr id="203" name=""/>
            <p:cNvSpPr/>
            <p:nvPr/>
          </p:nvSpPr>
          <p:spPr>
            <a:xfrm>
              <a:off x="5867280" y="3809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mming the values of all the element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352320" y="4038480"/>
              <a:ext cx="2514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504960" y="4876920"/>
            <a:ext cx="5105520" cy="885240"/>
            <a:chOff x="3504960" y="4876920"/>
            <a:chExt cx="5105520" cy="885240"/>
          </a:xfrm>
        </p:grpSpPr>
        <p:sp>
          <p:nvSpPr>
            <p:cNvPr id="206" name=""/>
            <p:cNvSpPr/>
            <p:nvPr/>
          </p:nvSpPr>
          <p:spPr>
            <a:xfrm>
              <a:off x="5410080" y="51814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vi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alculate the average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504960" y="4876920"/>
              <a:ext cx="2819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2" dur="1" fill="hold"/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79600" y="2400480"/>
            <a:ext cx="6183360" cy="2923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5080" y="1461960"/>
            <a:ext cx="59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Statist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791320" y="3276720"/>
            <a:ext cx="2895480" cy="533160"/>
            <a:chOff x="5791320" y="3276720"/>
            <a:chExt cx="2895480" cy="533160"/>
          </a:xfrm>
        </p:grpSpPr>
        <p:sp>
          <p:nvSpPr>
            <p:cNvPr id="212" name=""/>
            <p:cNvSpPr/>
            <p:nvPr/>
          </p:nvSpPr>
          <p:spPr>
            <a:xfrm>
              <a:off x="6095880" y="327672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ting the average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791320" y="34290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562720" y="4648320"/>
            <a:ext cx="2590560" cy="1342440"/>
            <a:chOff x="5562720" y="4648320"/>
            <a:chExt cx="2590560" cy="1342440"/>
          </a:xfrm>
        </p:grpSpPr>
        <p:sp>
          <p:nvSpPr>
            <p:cNvPr id="215" name=""/>
            <p:cNvSpPr/>
            <p:nvPr/>
          </p:nvSpPr>
          <p:spPr>
            <a:xfrm>
              <a:off x="5562720" y="541008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ting the minimum and maximum gr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5943240" y="464832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6" dur="1" fill="hold"/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84280" y="2743200"/>
            <a:ext cx="6174000" cy="1476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10760" y="1447920"/>
            <a:ext cx="71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de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definition and implem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3580920"/>
            <a:ext cx="3200400" cy="1266840"/>
            <a:chOff x="457200" y="3580920"/>
            <a:chExt cx="3200400" cy="1266840"/>
          </a:xfrm>
        </p:grpSpPr>
        <p:sp>
          <p:nvSpPr>
            <p:cNvPr id="221" name=""/>
            <p:cNvSpPr/>
            <p:nvPr/>
          </p:nvSpPr>
          <p:spPr>
            <a:xfrm>
              <a:off x="457200" y="42670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i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62120" y="358092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84360" y="5334120"/>
            <a:ext cx="776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templates require clients to explicitly include thei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p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les as well as thei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5" dur="1" fill="hold"/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79600" y="3052800"/>
            <a:ext cx="6183360" cy="1619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14720" y="1461960"/>
            <a:ext cx="61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empl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80880" y="4114440"/>
            <a:ext cx="2971800" cy="1190520"/>
            <a:chOff x="380880" y="4114440"/>
            <a:chExt cx="2971800" cy="1190520"/>
          </a:xfrm>
        </p:grpSpPr>
        <p:sp>
          <p:nvSpPr>
            <p:cNvPr id="228" name=""/>
            <p:cNvSpPr/>
            <p:nvPr/>
          </p:nvSpPr>
          <p:spPr>
            <a:xfrm>
              <a:off x="380880" y="47242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cess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09480" y="4114440"/>
              <a:ext cx="1524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4" dur="1" fill="hold"/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50800" y="2476440"/>
            <a:ext cx="6240600" cy="2772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14360" y="1461960"/>
            <a:ext cx="593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adeBook&l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3520" y="3885840"/>
            <a:ext cx="3809880" cy="1861560"/>
            <a:chOff x="533520" y="3885840"/>
            <a:chExt cx="3809880" cy="1861560"/>
          </a:xfrm>
        </p:grpSpPr>
        <p:sp>
          <p:nvSpPr>
            <p:cNvPr id="234" name=""/>
            <p:cNvSpPr/>
            <p:nvPr/>
          </p:nvSpPr>
          <p:spPr>
            <a:xfrm>
              <a:off x="533520" y="5410080"/>
              <a:ext cx="3809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tiat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Book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33520" y="3885840"/>
              <a:ext cx="20574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657600" y="4419360"/>
            <a:ext cx="4495680" cy="1571400"/>
            <a:chOff x="3657600" y="4419360"/>
            <a:chExt cx="4495680" cy="1571400"/>
          </a:xfrm>
        </p:grpSpPr>
        <p:sp>
          <p:nvSpPr>
            <p:cNvPr id="237" name=""/>
            <p:cNvSpPr/>
            <p:nvPr/>
          </p:nvSpPr>
          <p:spPr>
            <a:xfrm>
              <a:off x="5410080" y="54100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cess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3657600" y="4419360"/>
              <a:ext cx="28195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8" dur="1" fill="hold"/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50800" y="2386080"/>
            <a:ext cx="6240600" cy="2952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5080" y="1461960"/>
            <a:ext cx="62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adeBook&l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4920" y="3962160"/>
            <a:ext cx="2971800" cy="2028600"/>
            <a:chOff x="304920" y="3962160"/>
            <a:chExt cx="2971800" cy="2028600"/>
          </a:xfrm>
        </p:grpSpPr>
        <p:sp>
          <p:nvSpPr>
            <p:cNvPr id="243" name=""/>
            <p:cNvSpPr/>
            <p:nvPr/>
          </p:nvSpPr>
          <p:spPr>
            <a:xfrm>
              <a:off x="304920" y="54100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tiating a 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Book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04920" y="3962160"/>
              <a:ext cx="22096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657600" y="4495680"/>
            <a:ext cx="4267080" cy="1495080"/>
            <a:chOff x="3657600" y="4495680"/>
            <a:chExt cx="4267080" cy="1495080"/>
          </a:xfrm>
        </p:grpSpPr>
        <p:sp>
          <p:nvSpPr>
            <p:cNvPr id="246" name=""/>
            <p:cNvSpPr/>
            <p:nvPr/>
          </p:nvSpPr>
          <p:spPr>
            <a:xfrm>
              <a:off x="5181480" y="54100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cess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657600" y="4495680"/>
              <a:ext cx="2743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2" dur="1" fill="hold"/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355840" y="1752480"/>
            <a:ext cx="4430880" cy="4525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15440" y="1447920"/>
            <a:ext cx="55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gr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4920" y="2438280"/>
            <a:ext cx="2666880" cy="580680"/>
            <a:chOff x="304920" y="2438280"/>
            <a:chExt cx="2666880" cy="580680"/>
          </a:xfrm>
        </p:grpSpPr>
        <p:sp>
          <p:nvSpPr>
            <p:cNvPr id="252" name=""/>
            <p:cNvSpPr/>
            <p:nvPr/>
          </p:nvSpPr>
          <p:spPr>
            <a:xfrm>
              <a:off x="304920" y="243828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the variable to store a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0" y="266688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28600" y="3580920"/>
            <a:ext cx="2743200" cy="657360"/>
            <a:chOff x="228600" y="3580920"/>
            <a:chExt cx="2743200" cy="657360"/>
          </a:xfrm>
        </p:grpSpPr>
        <p:sp>
          <p:nvSpPr>
            <p:cNvPr id="255" name=""/>
            <p:cNvSpPr/>
            <p:nvPr/>
          </p:nvSpPr>
          <p:spPr>
            <a:xfrm>
              <a:off x="228600" y="36576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erating once for each student in the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286000" y="3580920"/>
              <a:ext cx="6858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952880" y="3581280"/>
            <a:ext cx="3886200" cy="580680"/>
            <a:chOff x="4952880" y="3581280"/>
            <a:chExt cx="3886200" cy="580680"/>
          </a:xfrm>
        </p:grpSpPr>
        <p:sp>
          <p:nvSpPr>
            <p:cNvPr id="258" name=""/>
            <p:cNvSpPr/>
            <p:nvPr/>
          </p:nvSpPr>
          <p:spPr>
            <a:xfrm>
              <a:off x="6400800" y="35812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a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952880" y="3886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105520" y="4343040"/>
            <a:ext cx="3581280" cy="581040"/>
            <a:chOff x="5105520" y="4343040"/>
            <a:chExt cx="3581280" cy="581040"/>
          </a:xfrm>
        </p:grpSpPr>
        <p:sp>
          <p:nvSpPr>
            <p:cNvPr id="261" name=""/>
            <p:cNvSpPr/>
            <p:nvPr/>
          </p:nvSpPr>
          <p:spPr>
            <a:xfrm>
              <a:off x="6477120" y="43434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ing until the user inputs a valid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5105520" y="434304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105160" y="5410080"/>
            <a:ext cx="3505320" cy="580680"/>
            <a:chOff x="5105160" y="5410080"/>
            <a:chExt cx="3505320" cy="580680"/>
          </a:xfrm>
        </p:grpSpPr>
        <p:sp>
          <p:nvSpPr>
            <p:cNvPr id="264" name=""/>
            <p:cNvSpPr/>
            <p:nvPr/>
          </p:nvSpPr>
          <p:spPr>
            <a:xfrm>
              <a:off x="5791320" y="541008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ring the grad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yGrade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05160" y="5486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1" dur="1" fill="hold"/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479600" y="2800440"/>
            <a:ext cx="6183360" cy="2124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12920" y="1461960"/>
            <a:ext cx="83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grades and statistics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empl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57200" y="3809520"/>
            <a:ext cx="2895480" cy="1633320"/>
            <a:chOff x="457200" y="3809520"/>
            <a:chExt cx="2895480" cy="1633320"/>
          </a:xfrm>
        </p:grpSpPr>
        <p:sp>
          <p:nvSpPr>
            <p:cNvPr id="270" name=""/>
            <p:cNvSpPr/>
            <p:nvPr/>
          </p:nvSpPr>
          <p:spPr>
            <a:xfrm>
              <a:off x="457200" y="510552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a grade report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57200" y="380952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648320" y="4419360"/>
            <a:ext cx="3733560" cy="947160"/>
            <a:chOff x="4648320" y="4419360"/>
            <a:chExt cx="3733560" cy="947160"/>
          </a:xfrm>
        </p:grpSpPr>
        <p:sp>
          <p:nvSpPr>
            <p:cNvPr id="273" name=""/>
            <p:cNvSpPr/>
            <p:nvPr/>
          </p:nvSpPr>
          <p:spPr>
            <a:xfrm>
              <a:off x="5562720" y="5029200"/>
              <a:ext cx="2819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grades and statist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4648320" y="4419360"/>
              <a:ext cx="2590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5" dur="1" fill="hold"/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766880" y="1905120"/>
            <a:ext cx="5610240" cy="4019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15440" y="1447920"/>
            <a:ext cx="61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de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 for integer gr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66880" y="1828800"/>
            <a:ext cx="5610240" cy="424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14360" y="1447920"/>
            <a:ext cx="76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de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 when entering floating-point gr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7086600" y="1066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81080" y="2362320"/>
            <a:ext cx="6248520" cy="580680"/>
            <a:chOff x="1981080" y="2362320"/>
            <a:chExt cx="6248520" cy="580680"/>
          </a:xfrm>
        </p:grpSpPr>
        <p:sp>
          <p:nvSpPr>
            <p:cNvPr id="285" name=""/>
            <p:cNvSpPr/>
            <p:nvPr/>
          </p:nvSpPr>
          <p:spPr>
            <a:xfrm>
              <a:off x="5334120" y="23623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class template with one formal typ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981080" y="259092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981080" y="3429000"/>
            <a:ext cx="5639040" cy="580680"/>
            <a:chOff x="1981080" y="3429000"/>
            <a:chExt cx="5639040" cy="580680"/>
          </a:xfrm>
        </p:grpSpPr>
        <p:sp>
          <p:nvSpPr>
            <p:cNvPr id="288" name=""/>
            <p:cNvSpPr/>
            <p:nvPr/>
          </p:nvSpPr>
          <p:spPr>
            <a:xfrm>
              <a:off x="5257800" y="342900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the one-argument constru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1981080" y="3505320"/>
              <a:ext cx="3276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752120" y="4266720"/>
            <a:ext cx="4115160" cy="885960"/>
            <a:chOff x="1752120" y="4266720"/>
            <a:chExt cx="4115160" cy="885960"/>
          </a:xfrm>
        </p:grpSpPr>
        <p:sp>
          <p:nvSpPr>
            <p:cNvPr id="291" name=""/>
            <p:cNvSpPr/>
            <p:nvPr/>
          </p:nvSpPr>
          <p:spPr>
            <a:xfrm>
              <a:off x="3352680" y="45720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1752120" y="4266720"/>
              <a:ext cx="1600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4" dur="1" fill="hold"/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7086600" y="1066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514600" y="304920"/>
            <a:ext cx="6248520" cy="580680"/>
            <a:chOff x="2514600" y="304920"/>
            <a:chExt cx="6248520" cy="580680"/>
          </a:xfrm>
        </p:grpSpPr>
        <p:sp>
          <p:nvSpPr>
            <p:cNvPr id="297" name=""/>
            <p:cNvSpPr/>
            <p:nvPr/>
          </p:nvSpPr>
          <p:spPr>
            <a:xfrm>
              <a:off x="6248520" y="3049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514600" y="45720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885840" y="1523520"/>
            <a:ext cx="4800960" cy="977040"/>
            <a:chOff x="3885840" y="1523520"/>
            <a:chExt cx="4800960" cy="977040"/>
          </a:xfrm>
        </p:grpSpPr>
        <p:sp>
          <p:nvSpPr>
            <p:cNvPr id="300" name=""/>
            <p:cNvSpPr/>
            <p:nvPr/>
          </p:nvSpPr>
          <p:spPr>
            <a:xfrm>
              <a:off x="5867280" y="167652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member function and member function templates that display statistical infor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52352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8" dur="1" fill="hold"/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2200" y="1447920"/>
            <a:ext cx="58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de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1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362320" y="3352680"/>
            <a:ext cx="5943600" cy="580680"/>
            <a:chOff x="2362320" y="3352680"/>
            <a:chExt cx="5943600" cy="580680"/>
          </a:xfrm>
        </p:grpSpPr>
        <p:sp>
          <p:nvSpPr>
            <p:cNvPr id="306" name=""/>
            <p:cNvSpPr/>
            <p:nvPr/>
          </p:nvSpPr>
          <p:spPr>
            <a:xfrm>
              <a:off x="5486400" y="33526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Si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2362320" y="3504960"/>
              <a:ext cx="31240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95480" y="4191120"/>
            <a:ext cx="5715000" cy="824040"/>
            <a:chOff x="2895480" y="4191120"/>
            <a:chExt cx="5715000" cy="824040"/>
          </a:xfrm>
        </p:grpSpPr>
        <p:sp>
          <p:nvSpPr>
            <p:cNvPr id="309" name=""/>
            <p:cNvSpPr/>
            <p:nvPr/>
          </p:nvSpPr>
          <p:spPr>
            <a:xfrm>
              <a:off x="5638680" y="419112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ynamically allocate memory for an array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2895480" y="4266720"/>
              <a:ext cx="2743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209680" y="5486400"/>
            <a:ext cx="5562720" cy="642240"/>
            <a:chOff x="2209680" y="5486400"/>
            <a:chExt cx="5562720" cy="642240"/>
          </a:xfrm>
        </p:grpSpPr>
        <p:sp>
          <p:nvSpPr>
            <p:cNvPr id="312" name=""/>
            <p:cNvSpPr/>
            <p:nvPr/>
          </p:nvSpPr>
          <p:spPr>
            <a:xfrm>
              <a:off x="5562720" y="579132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all grade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2209680" y="5486400"/>
              <a:ext cx="3353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7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2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3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4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590920" y="228600"/>
            <a:ext cx="5105160" cy="762120"/>
            <a:chOff x="2590920" y="228600"/>
            <a:chExt cx="5105160" cy="762120"/>
          </a:xfrm>
        </p:grpSpPr>
        <p:sp>
          <p:nvSpPr>
            <p:cNvPr id="324" name=""/>
            <p:cNvSpPr/>
            <p:nvPr/>
          </p:nvSpPr>
          <p:spPr>
            <a:xfrm>
              <a:off x="4724280" y="2286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w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ontain the smallest value encountered so f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590920" y="457200"/>
              <a:ext cx="21333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733920" y="1676520"/>
            <a:ext cx="4572000" cy="580680"/>
            <a:chOff x="3733920" y="1676520"/>
            <a:chExt cx="4572000" cy="580680"/>
          </a:xfrm>
        </p:grpSpPr>
        <p:sp>
          <p:nvSpPr>
            <p:cNvPr id="327" name=""/>
            <p:cNvSpPr/>
            <p:nvPr/>
          </p:nvSpPr>
          <p:spPr>
            <a:xfrm>
              <a:off x="5943600" y="16765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erate over the remaining element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733920" y="1752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057400" y="3123720"/>
            <a:ext cx="5943600" cy="1266840"/>
            <a:chOff x="2057400" y="3123720"/>
            <a:chExt cx="5943600" cy="1266840"/>
          </a:xfrm>
        </p:grpSpPr>
        <p:sp>
          <p:nvSpPr>
            <p:cNvPr id="330" name=""/>
            <p:cNvSpPr/>
            <p:nvPr/>
          </p:nvSpPr>
          <p:spPr>
            <a:xfrm>
              <a:off x="5181480" y="38098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w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a smaller value is f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2057400" y="3123720"/>
              <a:ext cx="3124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6" dur="1" fill="hold"/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5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666880" y="1143000"/>
            <a:ext cx="5867640" cy="1114200"/>
            <a:chOff x="2666880" y="1143000"/>
            <a:chExt cx="5867640" cy="1114200"/>
          </a:xfrm>
        </p:grpSpPr>
        <p:sp>
          <p:nvSpPr>
            <p:cNvPr id="336" name=""/>
            <p:cNvSpPr/>
            <p:nvPr/>
          </p:nvSpPr>
          <p:spPr>
            <a:xfrm>
              <a:off x="5410080" y="167652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gh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ontain the largest value encountered so f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2666880" y="1143000"/>
              <a:ext cx="2895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437920" y="3428640"/>
            <a:ext cx="5334480" cy="1038240"/>
            <a:chOff x="2437920" y="3428640"/>
            <a:chExt cx="5334480" cy="1038240"/>
          </a:xfrm>
        </p:grpSpPr>
        <p:sp>
          <p:nvSpPr>
            <p:cNvPr id="339" name=""/>
            <p:cNvSpPr/>
            <p:nvPr/>
          </p:nvSpPr>
          <p:spPr>
            <a:xfrm>
              <a:off x="4952880" y="38862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gh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a larger value is f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2437920" y="3428640"/>
              <a:ext cx="2514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0" dur="1" fill="hold"/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0" y="0"/>
          <a:ext cx="685656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6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057400" y="1142640"/>
            <a:ext cx="5638680" cy="1114560"/>
            <a:chOff x="2057400" y="1142640"/>
            <a:chExt cx="5638680" cy="1114560"/>
          </a:xfrm>
        </p:grpSpPr>
        <p:sp>
          <p:nvSpPr>
            <p:cNvPr id="345" name=""/>
            <p:cNvSpPr/>
            <p:nvPr/>
          </p:nvSpPr>
          <p:spPr>
            <a:xfrm>
              <a:off x="5334120" y="167652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and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2057400" y="1142640"/>
              <a:ext cx="3276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752480" y="2362320"/>
            <a:ext cx="6858000" cy="580680"/>
            <a:chOff x="1752480" y="2362320"/>
            <a:chExt cx="6858000" cy="580680"/>
          </a:xfrm>
        </p:grpSpPr>
        <p:sp>
          <p:nvSpPr>
            <p:cNvPr id="348" name=""/>
            <p:cNvSpPr/>
            <p:nvPr/>
          </p:nvSpPr>
          <p:spPr>
            <a:xfrm>
              <a:off x="5562720" y="236232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m the values of all the element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1752480" y="2362320"/>
              <a:ext cx="3810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2361960" y="3047760"/>
            <a:ext cx="5105520" cy="1114200"/>
            <a:chOff x="2361960" y="3047760"/>
            <a:chExt cx="5105520" cy="1114200"/>
          </a:xfrm>
        </p:grpSpPr>
        <p:sp>
          <p:nvSpPr>
            <p:cNvPr id="351" name=""/>
            <p:cNvSpPr/>
            <p:nvPr/>
          </p:nvSpPr>
          <p:spPr>
            <a:xfrm>
              <a:off x="4419720" y="358128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vi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alculate the average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2361960" y="3047760"/>
              <a:ext cx="297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9" dur="1" fill="hold"/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0" y="0"/>
          <a:ext cx="685656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7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0" y="457200"/>
            <a:ext cx="3657600" cy="685800"/>
            <a:chOff x="4572000" y="457200"/>
            <a:chExt cx="3657600" cy="685800"/>
          </a:xfrm>
        </p:grpSpPr>
        <p:sp>
          <p:nvSpPr>
            <p:cNvPr id="357" name=""/>
            <p:cNvSpPr/>
            <p:nvPr/>
          </p:nvSpPr>
          <p:spPr>
            <a:xfrm>
              <a:off x="5943600" y="4572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average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572000" y="60948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571640" y="1600200"/>
            <a:ext cx="3581640" cy="337320"/>
            <a:chOff x="4571640" y="1600200"/>
            <a:chExt cx="3581640" cy="337320"/>
          </a:xfrm>
        </p:grpSpPr>
        <p:sp>
          <p:nvSpPr>
            <p:cNvPr id="360" name=""/>
            <p:cNvSpPr/>
            <p:nvPr/>
          </p:nvSpPr>
          <p:spPr>
            <a:xfrm>
              <a:off x="5715000" y="160020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minimum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571640" y="167652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495320" y="2286000"/>
            <a:ext cx="2972160" cy="718200"/>
            <a:chOff x="4495320" y="2286000"/>
            <a:chExt cx="2972160" cy="718200"/>
          </a:xfrm>
        </p:grpSpPr>
        <p:sp>
          <p:nvSpPr>
            <p:cNvPr id="363" name=""/>
            <p:cNvSpPr/>
            <p:nvPr/>
          </p:nvSpPr>
          <p:spPr>
            <a:xfrm>
              <a:off x="4952880" y="266688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maximum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4495320" y="228600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8" dur="1" fill="hold"/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0" y="324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6934320" y="1066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Manager.cpp (1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286000" y="1828800"/>
            <a:ext cx="5562720" cy="580680"/>
            <a:chOff x="2286000" y="1828800"/>
            <a:chExt cx="5562720" cy="580680"/>
          </a:xfrm>
        </p:grpSpPr>
        <p:sp>
          <p:nvSpPr>
            <p:cNvPr id="369" name=""/>
            <p:cNvSpPr/>
            <p:nvPr/>
          </p:nvSpPr>
          <p:spPr>
            <a:xfrm>
              <a:off x="5562720" y="18288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i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2286000" y="1904760"/>
              <a:ext cx="3276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580920" y="3200400"/>
            <a:ext cx="4115160" cy="580680"/>
            <a:chOff x="3580920" y="3200400"/>
            <a:chExt cx="4115160" cy="580680"/>
          </a:xfrm>
        </p:grpSpPr>
        <p:sp>
          <p:nvSpPr>
            <p:cNvPr id="372" name=""/>
            <p:cNvSpPr/>
            <p:nvPr/>
          </p:nvSpPr>
          <p:spPr>
            <a:xfrm>
              <a:off x="4876920" y="320040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cess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templ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3580920" y="3352680"/>
              <a:ext cx="1295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2" dur="1" fill="hold"/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6934320" y="1066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Manager.cpp (2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6934320" y="1066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Manager.cpp (3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200040" y="3962520"/>
            <a:ext cx="5639040" cy="580680"/>
            <a:chOff x="3200040" y="3962520"/>
            <a:chExt cx="5639040" cy="580680"/>
          </a:xfrm>
        </p:grpSpPr>
        <p:sp>
          <p:nvSpPr>
            <p:cNvPr id="381" name=""/>
            <p:cNvSpPr/>
            <p:nvPr/>
          </p:nvSpPr>
          <p:spPr>
            <a:xfrm>
              <a:off x="6095880" y="39625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Book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3200040" y="4038120"/>
              <a:ext cx="2895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981080" y="4800240"/>
            <a:ext cx="5105520" cy="718560"/>
            <a:chOff x="1981080" y="4800240"/>
            <a:chExt cx="5105520" cy="718560"/>
          </a:xfrm>
        </p:grpSpPr>
        <p:sp>
          <p:nvSpPr>
            <p:cNvPr id="384" name=""/>
            <p:cNvSpPr/>
            <p:nvPr/>
          </p:nvSpPr>
          <p:spPr>
            <a:xfrm>
              <a:off x="3809880" y="518148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cess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1981080" y="4800240"/>
              <a:ext cx="1828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6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2200" y="1447920"/>
            <a:ext cx="37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the grade 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6934320" y="1066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Manager.cpp (4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904760" y="2133360"/>
            <a:ext cx="4572360" cy="1023480"/>
            <a:chOff x="1904760" y="2133360"/>
            <a:chExt cx="4572360" cy="1023480"/>
          </a:xfrm>
        </p:grpSpPr>
        <p:sp>
          <p:nvSpPr>
            <p:cNvPr id="390" name=""/>
            <p:cNvSpPr/>
            <p:nvPr/>
          </p:nvSpPr>
          <p:spPr>
            <a:xfrm>
              <a:off x="3200400" y="281952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cess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1904760" y="213336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33560" y="1447560"/>
            <a:ext cx="4648320" cy="809640"/>
            <a:chOff x="3733560" y="1447560"/>
            <a:chExt cx="4648320" cy="809640"/>
          </a:xfrm>
        </p:grpSpPr>
        <p:sp>
          <p:nvSpPr>
            <p:cNvPr id="393" name=""/>
            <p:cNvSpPr/>
            <p:nvPr/>
          </p:nvSpPr>
          <p:spPr>
            <a:xfrm>
              <a:off x="5257800" y="167652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Book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3733560" y="1447560"/>
              <a:ext cx="1523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0" dur="1" fill="hold"/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6934320" y="1066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Manager.cpp (5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257440" y="1218960"/>
            <a:ext cx="3429360" cy="1038240"/>
            <a:chOff x="5257440" y="1218960"/>
            <a:chExt cx="3429360" cy="1038240"/>
          </a:xfrm>
        </p:grpSpPr>
        <p:sp>
          <p:nvSpPr>
            <p:cNvPr id="399" name=""/>
            <p:cNvSpPr/>
            <p:nvPr/>
          </p:nvSpPr>
          <p:spPr>
            <a:xfrm>
              <a:off x="6781680" y="167652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erate once for each student in the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5257440" y="121896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429000" y="1904760"/>
            <a:ext cx="4191120" cy="1114200"/>
            <a:chOff x="3429000" y="1904760"/>
            <a:chExt cx="4191120" cy="1114200"/>
          </a:xfrm>
        </p:grpSpPr>
        <p:sp>
          <p:nvSpPr>
            <p:cNvPr id="402" name=""/>
            <p:cNvSpPr/>
            <p:nvPr/>
          </p:nvSpPr>
          <p:spPr>
            <a:xfrm>
              <a:off x="5791320" y="24382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for and input a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3429000" y="1904760"/>
              <a:ext cx="2362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733560" y="2819520"/>
            <a:ext cx="3429360" cy="1037880"/>
            <a:chOff x="3733560" y="2819520"/>
            <a:chExt cx="3429360" cy="1037880"/>
          </a:xfrm>
        </p:grpSpPr>
        <p:sp>
          <p:nvSpPr>
            <p:cNvPr id="405" name=""/>
            <p:cNvSpPr/>
            <p:nvPr/>
          </p:nvSpPr>
          <p:spPr>
            <a:xfrm>
              <a:off x="5257800" y="327672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 until the user inputs a valid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733560" y="281952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733560" y="5105520"/>
            <a:ext cx="3429360" cy="580680"/>
            <a:chOff x="3733560" y="5105520"/>
            <a:chExt cx="3429360" cy="580680"/>
          </a:xfrm>
        </p:grpSpPr>
        <p:sp>
          <p:nvSpPr>
            <p:cNvPr id="408" name=""/>
            <p:cNvSpPr/>
            <p:nvPr/>
          </p:nvSpPr>
          <p:spPr>
            <a:xfrm>
              <a:off x="4800600" y="51055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re the grad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y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grades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3733560" y="51814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4" dur="1" fill="hold"/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0" y="0"/>
          <a:ext cx="6856560" cy="20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6934320" y="1066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Manager.cpp (6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352680" y="304920"/>
            <a:ext cx="3353040" cy="337320"/>
            <a:chOff x="3352680" y="304920"/>
            <a:chExt cx="3353040" cy="337320"/>
          </a:xfrm>
        </p:grpSpPr>
        <p:sp>
          <p:nvSpPr>
            <p:cNvPr id="414" name=""/>
            <p:cNvSpPr/>
            <p:nvPr/>
          </p:nvSpPr>
          <p:spPr>
            <a:xfrm>
              <a:off x="4419720" y="3049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grade report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352680" y="304920"/>
              <a:ext cx="10670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742840" y="762120"/>
            <a:ext cx="5105880" cy="337320"/>
            <a:chOff x="2742840" y="762120"/>
            <a:chExt cx="5105880" cy="337320"/>
          </a:xfrm>
        </p:grpSpPr>
        <p:sp>
          <p:nvSpPr>
            <p:cNvPr id="417" name=""/>
            <p:cNvSpPr/>
            <p:nvPr/>
          </p:nvSpPr>
          <p:spPr>
            <a:xfrm>
              <a:off x="5334120" y="7621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grades and statist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742840" y="762120"/>
              <a:ext cx="2590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8" dur="1" fill="hold"/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2824200"/>
            <a:ext cx="5610240" cy="2076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2200" y="1447920"/>
            <a:ext cx="29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gr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2309760"/>
            <a:ext cx="5610240" cy="3105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8600" y="1447920"/>
            <a:ext cx="614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students’ grades and class statist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0760" y="1447920"/>
            <a:ext cx="50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floating-point grades as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6880" y="1828800"/>
            <a:ext cx="5610240" cy="4362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1120" y="1447920"/>
            <a:ext cx="65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floating-point grades and displaying the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05:38Z</dcterms:created>
  <dc:creator>Jeffrey Peng</dc:creator>
  <dc:description/>
  <dc:language>en-US</dc:language>
  <cp:lastModifiedBy>Pearson Education</cp:lastModifiedBy>
  <dcterms:modified xsi:type="dcterms:W3CDTF">2004-10-11T14:12:41Z</dcterms:modified>
  <cp:revision>63</cp:revision>
  <dc:subject/>
  <dc:title>Tutorial 21 – Grade Book Application: Introducing Templates</dc:title>
</cp:coreProperties>
</file>